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CFD-E48F-469E-9E5A-EC2CF8E5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F348-B6F2-4810-96BF-1D6EC509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51D-35D5-4440-BB01-BAD01A1E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366-3816-40ED-95AC-6EDA9017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005D5-863B-4982-8996-D9067057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AB8F3-5C97-4A1F-BBF0-738E5B50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44A44-A916-4939-B032-2D87F694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EC1A5-776E-4176-AA5A-405CC213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DF5AC-9ACB-4269-A52B-C2540E77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9C87A-287D-46F5-8D8A-387F1AAB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A4C22-8FC1-4A4D-9764-FB83620A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582-2D82-45C3-96D4-2F343BEF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91579-C7CF-42B7-8D57-66167460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540A1-B1B2-4C3C-8C7C-304E78D8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7E9D7-08F3-4943-9443-B30B99C2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67840-C439-4B09-AEE6-4F1B6234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9F3FA-4A43-46CD-BCA4-E35919A0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0066-F4D4-409B-B4FE-8F2B0EFB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F57-1651-4845-A036-763E2113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C7F-29C9-4DDA-BB31-43246369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AAE-AE9F-4EBF-8C43-AA407CC1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ADB-83FC-407A-A6E7-A0A72C90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2B2-B075-4790-A3F4-3D015E49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EEC9-E7A6-4520-B33A-0FE50027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CB3B-206D-414A-83B1-97EA660C1D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06CF-F171-49AA-A630-78D1AF0B29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ETROLU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(Adaptat după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Manualul de Chimie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clasa a X-a</a:t>
            </a: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Rodica Constantinescu, Maria-Luiza Popescu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ffffff"/>
                </a:solidFill>
                <a:latin typeface="Tahoma"/>
              </a:rPr>
              <a:t>ţiei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 este un amestec </a:t>
            </a:r>
            <a:r>
              <a:rPr b="0" lang="ro-RO" sz="1200" spc="-1" strike="noStrike">
                <a:solidFill>
                  <a:srgbClr val="ffffff"/>
                </a:solidFill>
                <a:latin typeface="Tahoma"/>
              </a:rPr>
              <a:t>complex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comp_i"/>
          <p:cNvPicPr/>
          <p:nvPr/>
        </p:nvPicPr>
        <p:blipFill>
          <a:blip r:embed="rId2">
            <a:grayscl/>
          </a:blip>
          <a:srcRect l="27997" t="0" r="0" b="0"/>
          <a:stretch/>
        </p:blipFill>
        <p:spPr>
          <a:xfrm>
            <a:off x="6113520" y="1676520"/>
            <a:ext cx="143964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 este 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ste insolubil în apă, formând cu aceasta o emulsi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Ştiaţi c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Metanul este principalul constituent al gazelor natura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2</cp:lastModifiedBy>
  <dcterms:modified xsi:type="dcterms:W3CDTF">2012-06-19T10:57:11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